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A8C7-CC89-40AF-B7B8-0D00FD44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B1FE-DB89-40E4-953B-52A20A8B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0637-E860-448E-A1FD-29105DE8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D1AC-CD4B-4F98-BF7A-EC5C841B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C9EB-1049-40FC-A421-C507196C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9DF9-DFE8-4B3B-A4D3-0C541AD2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54AF-87EB-48AA-A300-2807D9C5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3963-3E49-48CE-BE80-F70AB9E0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D7E5-78A1-4AE2-BCEC-8EC04C7F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982C-567F-4AE3-9D31-42E198A1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50E2-1B9E-4752-A9DC-7E31687C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ACCE-4AD9-471D-8C64-E6D21F76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233E-89DF-4A8B-9877-F713D1E8D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10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cher Name:  _________   Deutscher Name:  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ist los? Warum?  Circle the mistake and write why it is wrong.  If there is no mistake, write nichts.  There is only one mistake per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Meiner Tiger ist orange.  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Die Känguru hüpft.  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Ich suche für mein Pony.  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Ich habe seinen Hund.  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Ist der Junge den Peter?  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proper der oder ein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o ist m_____________ Flie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Du hast e_____________ Fliege als Haust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Ja.  Natürlich.  Ich habe auch e_________ H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D__________ Hund hat Flöh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S______________ Mutter ist okay dam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Sie hat k____________ Ahnung (f), dass er Flöhe 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 Ach so.  Und d_________ Bruder?  Hat er e________ Hausti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 Nein.  Er hat nur e____________ Teddy (m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 Das ist unfair.  M_____________ Schwester hat e____________ Kängur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 have a dog. 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She hates the 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The horse is br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I like the pengu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Her brother is (called) Bo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e crocodile lives in Alaba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9:20:05Z</dcterms:created>
  <dc:creator>udsd</dc:creator>
  <dc:description/>
  <dc:language>en-US</dc:language>
  <cp:lastModifiedBy>udsd</cp:lastModifiedBy>
  <dcterms:modified xsi:type="dcterms:W3CDTF">2011-10-04T19:41:28Z</dcterms:modified>
  <cp:revision>2</cp:revision>
  <dc:subject/>
  <dc:title>Slide 1</dc:title>
</cp:coreProperties>
</file>